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5E5-78E4-4B7F-BD1E-1C2F4E39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D1C-283A-4DAB-BB2A-9F8D2A5D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28F6-7B4B-42DA-B9E4-FDF29E28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08F-0BE2-45D5-8FC8-11862EE5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521F-0B26-4EE6-AE64-C810D5F8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2513-DAD3-4BCF-ACCF-70AD0DF1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B49C-923B-48E2-AAE0-8E8A5965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C948-2AB0-48BB-AE7D-7180538C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0D04-99EC-41A7-AC9D-4B1F5007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8360-8376-493F-BE78-26D4A6BC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456F-5B01-40C2-8BC6-5B3458D4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599-1602-4126-A4CD-47E71D94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6D52-C7C3-4D2E-BD12-98285F08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7D9C-A681-444E-B9B3-655BF1C8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4934-23F9-4473-A024-AD72C6E1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DF0D-9B48-491E-8C04-37E17FD2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53B3-01CB-4E0A-86D6-D75BBC64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58AB-B3B2-40DE-990D-E0F2504A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74E4-86D6-4D85-BB2B-2A35CA13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6DA-F117-4D38-8A34-955D4C6F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BF7-54BF-40FD-BD2B-E4033D79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DEE-ECD4-438C-8699-EEDD6CD5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654-E8B4-41DD-8EBA-8F016F38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C93-FD16-4D52-8285-4881786D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E322-7BCB-4E3E-8CD8-39D0A0F207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322B-CAE3-4A45-91D2-ACD121ED9E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Gungsuh"/>
              </a:rPr>
              <a:t>Translation Blo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ungsuh"/>
              </a:rPr>
              <a:t>By: Mario Escob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ungsuh"/>
              </a:rPr>
              <a:t>Andrea Portil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ungsuh"/>
              </a:rPr>
              <a:t>and Adriana Viñ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60400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29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2920" y="1700280"/>
            <a:ext cx="9001080" cy="3633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52640" y="1599840"/>
            <a:ext cx="4033800" cy="2173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14400" y="6524280"/>
            <a:ext cx="82296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1294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93250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8:30:47Z</dcterms:created>
  <dc:creator>viñas</dc:creator>
  <dc:description/>
  <dc:language>en-US</dc:language>
  <cp:lastModifiedBy>viñas</cp:lastModifiedBy>
  <dcterms:modified xsi:type="dcterms:W3CDTF">2011-09-27T18:57:53Z</dcterms:modified>
  <cp:revision>3</cp:revision>
  <dc:subject/>
  <dc:title>Translation Blogs</dc:title>
</cp:coreProperties>
</file>